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41.jpeg" ContentType="image/jpeg"/>
  <Override PartName="/ppt/media/image28.jpeg" ContentType="image/jpeg"/>
  <Override PartName="/ppt/media/image6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4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DDF-B8A4-4DFD-B926-230AD7D7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7D-4F5E-4736-BC6C-4EA20B5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8E3-BD38-4A4E-BE42-281F309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C88-00B4-4517-B7C1-AC9ACBD8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B809-58C9-4898-B9AD-6A909F71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0D1-B489-4511-985A-EAC41E4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2989-9652-455C-A972-B30EC259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DACB-B6E9-4267-955A-FEDBDD4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EE90-B489-41CC-9A1D-6172C94A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460C-8788-4A9F-976B-E0FEADBA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A26-5E6D-44ED-8116-4C843D86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6DF-F1EF-4406-B1D1-514A1E8A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146-9B4B-44AF-A52E-E220367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6D3-EF57-4BDB-9C44-15771D3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EC67-9DBA-4E52-B8D9-8278E6E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4405-7B90-4214-92E7-C232008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23A-6505-4353-80AE-D911F30E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54B-C67B-4D88-9F2C-99D9AD6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903-F085-4EB0-9B71-D194F2DE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0C3-BEE9-4554-A00D-F6F8945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1D2-A4A8-476A-92E3-C7AC2649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0D3-B1D0-4738-A6AC-A8B9197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6EE-5A2C-4818-AB25-4C10E4A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CED-07A0-449C-AFE9-6E2D7C4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657-8726-48E1-895B-B9589630460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B3FC-5BB3-419A-9464-B83F378DA89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16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9280" y="1371600"/>
          <a:ext cx="8785080" cy="4602240"/>
        </p:xfrm>
        <a:graphic>
          <a:graphicData uri="http://schemas.openxmlformats.org/drawingml/2006/table">
            <a:tbl>
              <a:tblPr/>
              <a:tblGrid>
                <a:gridCol w="2739960"/>
                <a:gridCol w="3116160"/>
                <a:gridCol w="2928960"/>
              </a:tblGrid>
              <a:tr h="115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代表动物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水螅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涡虫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身体的对称性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其它特征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80880" y="380880"/>
            <a:ext cx="1036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复习：比较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腔肠动物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扁形动物</a:t>
            </a:r>
            <a:r>
              <a:rPr b="1" lang="zh-CN" sz="3400" spc="-1" strike="noStrike">
                <a:solidFill>
                  <a:srgbClr val="0033cc"/>
                </a:solidFill>
                <a:latin typeface="Arial"/>
              </a:rPr>
              <a:t>的主要特征：</a:t>
            </a:r>
            <a:endParaRPr b="0" lang="en-US" sz="3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2743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辐射对称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684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侧对称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386064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体表有刺细胞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38862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背腹扁平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8942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口无肛门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9"/>
          <p:cNvSpPr/>
          <p:nvPr/>
        </p:nvSpPr>
        <p:spPr>
          <a:xfrm>
            <a:off x="1066680" y="21654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微软雅黑"/>
              </a:rPr>
              <a:t>不透水的角质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1101600" y="376560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微软雅黑"/>
              </a:rPr>
              <a:t>消化管结构简单，有口、肛门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1066680" y="576576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微软雅黑"/>
              </a:rPr>
              <a:t>生殖器官发达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1089000" y="1327320"/>
            <a:ext cx="2232000" cy="714240"/>
            <a:chOff x="1089000" y="1327320"/>
            <a:chExt cx="2232000" cy="714240"/>
          </a:xfrm>
        </p:grpSpPr>
        <p:sp>
          <p:nvSpPr>
            <p:cNvPr id="147" name="圆角矩形 8"/>
            <p:cNvSpPr/>
            <p:nvPr/>
          </p:nvSpPr>
          <p:spPr>
            <a:xfrm>
              <a:off x="1089000" y="1327320"/>
              <a:ext cx="223200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148" name="TextBox 13"/>
            <p:cNvSpPr/>
            <p:nvPr/>
          </p:nvSpPr>
          <p:spPr>
            <a:xfrm>
              <a:off x="1273320" y="1424160"/>
              <a:ext cx="1850760" cy="52056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体表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149" name="Group 24"/>
          <p:cNvGrpSpPr/>
          <p:nvPr/>
        </p:nvGrpSpPr>
        <p:grpSpPr>
          <a:xfrm>
            <a:off x="1089000" y="2851200"/>
            <a:ext cx="2232000" cy="714240"/>
            <a:chOff x="1089000" y="2851200"/>
            <a:chExt cx="2232000" cy="714240"/>
          </a:xfrm>
        </p:grpSpPr>
        <p:sp>
          <p:nvSpPr>
            <p:cNvPr id="150" name="圆角矩形 8"/>
            <p:cNvSpPr/>
            <p:nvPr/>
          </p:nvSpPr>
          <p:spPr>
            <a:xfrm>
              <a:off x="1089000" y="2851200"/>
              <a:ext cx="223200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151" name="TextBox 13"/>
            <p:cNvSpPr/>
            <p:nvPr/>
          </p:nvSpPr>
          <p:spPr>
            <a:xfrm>
              <a:off x="1273320" y="2948040"/>
              <a:ext cx="1850760" cy="52056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消化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152" name="Group 24"/>
          <p:cNvGrpSpPr/>
          <p:nvPr/>
        </p:nvGrpSpPr>
        <p:grpSpPr>
          <a:xfrm>
            <a:off x="1120680" y="4900680"/>
            <a:ext cx="2232000" cy="714240"/>
            <a:chOff x="1120680" y="4900680"/>
            <a:chExt cx="2232000" cy="714240"/>
          </a:xfrm>
        </p:grpSpPr>
        <p:sp>
          <p:nvSpPr>
            <p:cNvPr id="153" name="圆角矩形 8"/>
            <p:cNvSpPr/>
            <p:nvPr/>
          </p:nvSpPr>
          <p:spPr>
            <a:xfrm>
              <a:off x="1120680" y="4900680"/>
              <a:ext cx="223200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154" name="TextBox 13"/>
            <p:cNvSpPr/>
            <p:nvPr/>
          </p:nvSpPr>
          <p:spPr>
            <a:xfrm>
              <a:off x="1305000" y="4997520"/>
              <a:ext cx="1850760" cy="52056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800" spc="-1" strike="noStrike">
                  <a:solidFill>
                    <a:srgbClr val="0033cc"/>
                  </a:solidFill>
                  <a:latin typeface="微软雅黑"/>
                  <a:ea typeface="微软雅黑"/>
                </a:rPr>
                <a:t>生殖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sp>
        <p:nvSpPr>
          <p:cNvPr id="155" name="Text Box 22"/>
          <p:cNvSpPr/>
          <p:nvPr/>
        </p:nvSpPr>
        <p:spPr>
          <a:xfrm>
            <a:off x="5867280" y="336600"/>
            <a:ext cx="2438640" cy="3750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微软雅黑"/>
              </a:rPr>
              <a:t>蛔虫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微软雅黑"/>
              </a:rPr>
              <a:t>适合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微软雅黑"/>
              </a:rPr>
              <a:t>寄生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微软雅黑"/>
              </a:rPr>
              <a:t>生活的特点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微软雅黑"/>
              </a:rPr>
              <a:t>：</a:t>
            </a:r>
            <a:endParaRPr b="0" lang="en-US" sz="8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820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成虫寿命约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每条雌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每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排卵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 宿主体内的成虫数目一般为一至数十条，个别可达上千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危害：蛔虫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成人肠内有蛔虫寄生，除吸取养分外，危害一般并不严重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数量多时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据报道，曾经有一人肠内有蛔虫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448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条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)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，造成肠道阻塞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幼虫可损伤肺、气管等，并可在脑、脊髓、眼球、肾等器官中停留，造成严重病状，如：肺水肿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成虫有迁移习性，可侵入胆管、胆囊、肝、胃等，引起不同症状，造成危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0440" y="715680"/>
            <a:ext cx="8066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线形动物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蛔虫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8" name="Picture 7" descr="搜狐社区网友上传图片"/>
          <p:cNvPicPr/>
          <p:nvPr/>
        </p:nvPicPr>
        <p:blipFill>
          <a:blip r:embed="rId2"/>
          <a:stretch/>
        </p:blipFill>
        <p:spPr>
          <a:xfrm>
            <a:off x="304920" y="1295280"/>
            <a:ext cx="5333760" cy="4334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533520" y="5911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你能想象，这是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体内取出的蛔虫吗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60" name="Picture 10" descr="搜狐社区网友上传图片"/>
          <p:cNvPicPr/>
          <p:nvPr/>
        </p:nvPicPr>
        <p:blipFill>
          <a:blip r:embed="rId3"/>
          <a:stretch/>
        </p:blipFill>
        <p:spPr>
          <a:xfrm>
            <a:off x="5715000" y="190512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症状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蛔虫病预防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628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腹痛、失眠、烦躁、磨牙、抽筋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肠梗阻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胆道蛔虫病、阑尾炎、腹膜炎、肺炎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85264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第一：注意个人卫生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喝不干净的生水，生的蔬菜瓜果洗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饭前便后洗手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第二：严格管理粪便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随地大便，粪便要处理、杀死虫卵后作肥料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867400" y="293760"/>
            <a:ext cx="342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蛔虫动物与人类关系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最后一段回答下列问题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rcRect l="0" t="0" r="884" b="13344"/>
          <a:stretch/>
        </p:blipFill>
        <p:spPr>
          <a:xfrm>
            <a:off x="468360" y="0"/>
            <a:ext cx="8207280" cy="5899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595008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肠道内蛔虫太多，会引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肠梗阻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8920" y="692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二）常见的线形动物：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557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蛔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蛲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钩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丝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线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等。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602136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蛲虫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95008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钩虫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71" name="Picture 11" descr="4-16"/>
          <p:cNvPicPr/>
          <p:nvPr/>
        </p:nvPicPr>
        <p:blipFill>
          <a:blip r:embed="rId2"/>
          <a:stretch/>
        </p:blipFill>
        <p:spPr>
          <a:xfrm>
            <a:off x="1619280" y="3141720"/>
            <a:ext cx="1727280" cy="26733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3" descr="3.钩虫.jpg"/>
          <p:cNvPicPr/>
          <p:nvPr/>
        </p:nvPicPr>
        <p:blipFill>
          <a:blip r:embed="rId3"/>
          <a:stretch/>
        </p:blipFill>
        <p:spPr>
          <a:xfrm>
            <a:off x="4211640" y="3429000"/>
            <a:ext cx="385776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078000" cy="280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丝虫"/>
          <p:cNvPicPr/>
          <p:nvPr/>
        </p:nvPicPr>
        <p:blipFill>
          <a:blip r:embed="rId3"/>
          <a:stretch/>
        </p:blipFill>
        <p:spPr>
          <a:xfrm>
            <a:off x="4716360" y="0"/>
            <a:ext cx="424836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84720" y="2997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丝虫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608360" cy="215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6021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蛲虫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78" name="Picture 4" descr="u=2159199793,951516595&amp;fm=23&amp;gp=0[1]"/>
          <p:cNvPicPr/>
          <p:nvPr/>
        </p:nvPicPr>
        <p:blipFill>
          <a:blip r:embed="rId5"/>
          <a:stretch/>
        </p:blipFill>
        <p:spPr>
          <a:xfrm>
            <a:off x="5076720" y="3933720"/>
            <a:ext cx="3637080" cy="2171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724360" y="609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秀丽隐杆线虫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640" y="0"/>
            <a:ext cx="3733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、其他线形动物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1.</a:t>
            </a:r>
            <a:r>
              <a:rPr b="1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蛲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寄生部位：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大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传播途径：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经口感染、逆行感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成虫常在夜间爬到肛门处产卵，引起肛门骚痒，卵在肛门处孵化后，幼虫可经肛门侵入大肠，行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逆行感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1976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7840" y="1020240"/>
            <a:ext cx="545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2. </a:t>
            </a:r>
            <a:r>
              <a:rPr b="0" lang="en-US" sz="3600" spc="-1" strike="noStrike">
                <a:solidFill>
                  <a:srgbClr val="3399ff"/>
                </a:solidFill>
                <a:latin typeface="黑体"/>
                <a:ea typeface="黑体"/>
              </a:rPr>
              <a:t>钩虫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3760" y="1980720"/>
            <a:ext cx="434988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寄生部位：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小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3581280" cy="2373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066680" y="3352680"/>
            <a:ext cx="2743200" cy="31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91120" y="3581280"/>
            <a:ext cx="426708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症状：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严重贫血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消化功能紊乱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247032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3399ff"/>
                </a:solidFill>
                <a:latin typeface="黑体"/>
                <a:ea typeface="黑体"/>
              </a:rPr>
              <a:t>、丝虫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传播媒介：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蚊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寄生部位：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淋巴系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病症：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乳糜尿、象皮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505320" cy="219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37924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乳糜尿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870520" y="914400"/>
            <a:ext cx="2656080" cy="4952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77120" y="6019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象皮腿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3320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 rot="616200">
            <a:off x="0" y="188640"/>
            <a:ext cx="319248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双基回顾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13000"/>
            <a:ext cx="913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水螅排出食物残渣的方式是（     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由肛门排出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由口排出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由细胞膜排出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下列身体两侧对称的动物是（    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血吸虫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水螅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海葵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下列不属于扁形动物的是（    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涡虫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血吸虫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珊瑚虫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268280"/>
            <a:ext cx="14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2349360"/>
            <a:ext cx="20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21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43000" y="7920"/>
            <a:ext cx="693432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4"/>
          <p:cNvSpPr/>
          <p:nvPr/>
        </p:nvSpPr>
        <p:spPr>
          <a:xfrm rot="849600">
            <a:off x="555480" y="759960"/>
            <a:ext cx="503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87440"/>
            <a:ext cx="37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秀丽隐杆线虫：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它是一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由生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形动物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个体小，成体仅一毫米左右。它全身透明，为雌雄同体，容易繁殖。生活周期短，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摄氏度下平均生活史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.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是人类研究遗传，发育，衰老等过程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要实验动物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97" name="Picture 4" descr="u=2159199793,951516595&amp;fm=23&amp;gp=0[1]"/>
          <p:cNvPicPr/>
          <p:nvPr/>
        </p:nvPicPr>
        <p:blipFill>
          <a:blip r:embed="rId2"/>
          <a:stretch/>
        </p:blipFill>
        <p:spPr>
          <a:xfrm>
            <a:off x="324000" y="0"/>
            <a:ext cx="3636720" cy="217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8440" y="0"/>
            <a:ext cx="53006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23" descr="3.钩虫.jpg"/>
          <p:cNvPicPr/>
          <p:nvPr/>
        </p:nvPicPr>
        <p:blipFill>
          <a:blip r:embed="rId2"/>
          <a:stretch/>
        </p:blipFill>
        <p:spPr>
          <a:xfrm>
            <a:off x="468360" y="692280"/>
            <a:ext cx="3857400" cy="24080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8"/>
          <p:cNvSpPr/>
          <p:nvPr/>
        </p:nvSpPr>
        <p:spPr>
          <a:xfrm>
            <a:off x="642960" y="4292640"/>
            <a:ext cx="3208320" cy="2565360"/>
          </a:xfrm>
          <a:prstGeom prst="rightArrow">
            <a:avLst>
              <a:gd name="adj1" fmla="val 50000"/>
              <a:gd name="adj2" fmla="val 31266"/>
            </a:avLst>
          </a:prstGeom>
          <a:solidFill>
            <a:srgbClr val="a6f4f8"/>
          </a:solidFill>
          <a:ln w="284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5148360" y="47005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微软雅黑"/>
              </a:rPr>
              <a:t>细长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4788000" y="522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微软雅黑"/>
              </a:rPr>
              <a:t>口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443640" y="522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微软雅黑"/>
              </a:rPr>
              <a:t>肛门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435640" y="580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微软雅黑"/>
              </a:rPr>
              <a:t>角质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05" name="Picture 11" descr="4-16"/>
          <p:cNvPicPr/>
          <p:nvPr/>
        </p:nvPicPr>
        <p:blipFill>
          <a:blip r:embed="rId3"/>
          <a:stretch/>
        </p:blipFill>
        <p:spPr>
          <a:xfrm rot="20999400">
            <a:off x="3995640" y="117360"/>
            <a:ext cx="1571760" cy="3178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4"/>
          <p:cNvSpPr/>
          <p:nvPr/>
        </p:nvSpPr>
        <p:spPr>
          <a:xfrm rot="849600">
            <a:off x="555480" y="759960"/>
            <a:ext cx="5032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7" name="Text Box 19"/>
          <p:cNvSpPr/>
          <p:nvPr/>
        </p:nvSpPr>
        <p:spPr>
          <a:xfrm rot="916200">
            <a:off x="-356040" y="933120"/>
            <a:ext cx="911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微软雅黑"/>
              </a:rPr>
              <a:t>钩虫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8" name="Text Box 22"/>
          <p:cNvSpPr/>
          <p:nvPr/>
        </p:nvSpPr>
        <p:spPr>
          <a:xfrm rot="20929200">
            <a:off x="4430520" y="19490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蛲虫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4467600" y="527688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有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_     </a:t>
            </a:r>
            <a:r>
              <a:rPr b="1" lang="en-US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__,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078600" y="5276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有</a:t>
            </a:r>
            <a:r>
              <a:rPr b="1" lang="en-US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_______;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4602960" y="5805360"/>
            <a:ext cx="22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体表有</a:t>
            </a:r>
            <a:r>
              <a:rPr b="1" lang="en-US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__________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1074240" y="5348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线形动物的主要特征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4356000" y="4724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身体</a:t>
            </a:r>
            <a:r>
              <a:rPr b="1" lang="en-US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_________;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呈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微软雅黑"/>
                <a:ea typeface="微软雅黑"/>
              </a:rPr>
              <a:t>            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4" name="Oval 29"/>
          <p:cNvSpPr/>
          <p:nvPr/>
        </p:nvSpPr>
        <p:spPr>
          <a:xfrm>
            <a:off x="4067280" y="484344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5" name="Oval 30"/>
          <p:cNvSpPr/>
          <p:nvPr/>
        </p:nvSpPr>
        <p:spPr>
          <a:xfrm>
            <a:off x="4067280" y="544500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4067280" y="5915160"/>
            <a:ext cx="215640" cy="21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09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其他线形动物</a:t>
            </a:r>
            <a:endParaRPr b="0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7093080" y="45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微软雅黑"/>
              </a:rPr>
              <a:t>圆柱形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19" name="" descr="丝虫"/>
          <p:cNvPicPr/>
          <p:nvPr/>
        </p:nvPicPr>
        <p:blipFill>
          <a:blip r:embed="rId6"/>
          <a:stretch/>
        </p:blipFill>
        <p:spPr>
          <a:xfrm>
            <a:off x="5580000" y="1484280"/>
            <a:ext cx="3816360" cy="2652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885080" y="3357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丝虫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21" name="Picture 4" descr="u=2159199793,951516595&amp;fm=23&amp;gp=0[1]"/>
          <p:cNvPicPr/>
          <p:nvPr/>
        </p:nvPicPr>
        <p:blipFill>
          <a:blip r:embed="rId7"/>
          <a:stretch/>
        </p:blipFill>
        <p:spPr>
          <a:xfrm>
            <a:off x="0" y="2709720"/>
            <a:ext cx="3637080" cy="2171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0" y="42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秀丽隐杆线虫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206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寄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寄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36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寄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自由生活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在下列蛔虫的形态结构特点中，哪项是不属于适于寄生生活的（　）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身体呈圆柱形     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体表有角质层　　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生殖器官发达     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消化管结构简单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701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蛔虫进入人体是通过（　）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呼吸道 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口腔 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蚊虫叮咬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．皮肤 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5045040" y="506520"/>
            <a:ext cx="9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266688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4920" y="4164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在下列蛔虫形态结构的特征中，哪项是比水螅在进化上的高等之处（　）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虫体细长　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具有消化腔　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四周围有三片唇 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具有口和肛门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5981760" y="472428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．患蛔虫病的人常有失眠、烦躁、夜惊等症状，其原因是蛔虫（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．唇片叮咬　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．虫体活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．分泌毒素　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．吸食人体营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042920" y="4292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在什么样的环境中可以找到蚯蚓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42920" y="5084640"/>
            <a:ext cx="81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蚯蚓生活在</a:t>
            </a:r>
            <a:r>
              <a:rPr b="1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潮湿，疏松，富含有机物</a:t>
            </a:r>
            <a:r>
              <a:rPr b="1" lang="zh-CN" sz="3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的土壤中。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37" name="Picture 9" descr="9adf9a1bb5"/>
          <p:cNvPicPr/>
          <p:nvPr/>
        </p:nvPicPr>
        <p:blipFill>
          <a:blip r:embed="rId2"/>
          <a:stretch/>
        </p:blipFill>
        <p:spPr>
          <a:xfrm>
            <a:off x="1763640" y="1052640"/>
            <a:ext cx="5329440" cy="3024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0"/>
          <p:cNvSpPr txBox="1"/>
          <p:nvPr/>
        </p:nvSpPr>
        <p:spPr>
          <a:xfrm>
            <a:off x="324000" y="260280"/>
            <a:ext cx="371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二、环节动物</a:t>
            </a:r>
            <a:endParaRPr b="1" lang="en-US" sz="4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280" y="1554120"/>
            <a:ext cx="1447920" cy="1874880"/>
          </a:xfrm>
          <a:custGeom>
            <a:avLst/>
            <a:gdLst/>
            <a:ahLst/>
            <a:rect l="l" t="t" r="r" b="b"/>
            <a:pathLst>
              <a:path w="4020" h="5210">
                <a:moveTo>
                  <a:pt x="397" y="8731"/>
                </a:moveTo>
                <a:cubicBezTo>
                  <a:pt x="511" y="8750"/>
                  <a:pt x="608" y="8768"/>
                  <a:pt x="719" y="8806"/>
                </a:cubicBezTo>
                <a:cubicBezTo>
                  <a:pt x="761" y="8820"/>
                  <a:pt x="803" y="8845"/>
                  <a:pt x="843" y="8855"/>
                </a:cubicBezTo>
                <a:cubicBezTo>
                  <a:pt x="889" y="8867"/>
                  <a:pt x="974" y="8899"/>
                  <a:pt x="992" y="8905"/>
                </a:cubicBezTo>
                <a:cubicBezTo>
                  <a:pt x="1034" y="8918"/>
                  <a:pt x="1078" y="8917"/>
                  <a:pt x="1116" y="8930"/>
                </a:cubicBezTo>
                <a:cubicBezTo>
                  <a:pt x="1166" y="8947"/>
                  <a:pt x="1217" y="8963"/>
                  <a:pt x="1265" y="8979"/>
                </a:cubicBezTo>
                <a:cubicBezTo>
                  <a:pt x="1338" y="9004"/>
                  <a:pt x="1408" y="9026"/>
                  <a:pt x="1488" y="9054"/>
                </a:cubicBezTo>
                <a:cubicBezTo>
                  <a:pt x="1549" y="9075"/>
                  <a:pt x="1605" y="9107"/>
                  <a:pt x="1662" y="9128"/>
                </a:cubicBezTo>
                <a:cubicBezTo>
                  <a:pt x="1717" y="9149"/>
                  <a:pt x="1741" y="9150"/>
                  <a:pt x="1811" y="9178"/>
                </a:cubicBezTo>
                <a:cubicBezTo>
                  <a:pt x="1869" y="9201"/>
                  <a:pt x="1924" y="9230"/>
                  <a:pt x="1984" y="9252"/>
                </a:cubicBezTo>
                <a:cubicBezTo>
                  <a:pt x="2046" y="9275"/>
                  <a:pt x="2103" y="9285"/>
                  <a:pt x="2158" y="9302"/>
                </a:cubicBezTo>
                <a:cubicBezTo>
                  <a:pt x="2226" y="9322"/>
                  <a:pt x="2317" y="9327"/>
                  <a:pt x="2381" y="9351"/>
                </a:cubicBezTo>
                <a:cubicBezTo>
                  <a:pt x="2437" y="9372"/>
                  <a:pt x="2503" y="9403"/>
                  <a:pt x="2555" y="9426"/>
                </a:cubicBezTo>
                <a:cubicBezTo>
                  <a:pt x="2619" y="9455"/>
                  <a:pt x="2679" y="9511"/>
                  <a:pt x="2753" y="9525"/>
                </a:cubicBezTo>
                <a:cubicBezTo>
                  <a:pt x="2961" y="9565"/>
                  <a:pt x="3206" y="9526"/>
                  <a:pt x="3398" y="9475"/>
                </a:cubicBezTo>
                <a:cubicBezTo>
                  <a:pt x="3585" y="9425"/>
                  <a:pt x="3765" y="9378"/>
                  <a:pt x="3944" y="9302"/>
                </a:cubicBezTo>
                <a:cubicBezTo>
                  <a:pt x="3979" y="9287"/>
                  <a:pt x="4120" y="9229"/>
                  <a:pt x="4142" y="9203"/>
                </a:cubicBezTo>
                <a:cubicBezTo>
                  <a:pt x="4169" y="9171"/>
                  <a:pt x="4157" y="9120"/>
                  <a:pt x="4167" y="9079"/>
                </a:cubicBezTo>
                <a:cubicBezTo>
                  <a:pt x="4288" y="8575"/>
                  <a:pt x="4217" y="7901"/>
                  <a:pt x="4217" y="7392"/>
                </a:cubicBezTo>
                <a:cubicBezTo>
                  <a:pt x="4217" y="6823"/>
                  <a:pt x="4273" y="6218"/>
                  <a:pt x="4192" y="5655"/>
                </a:cubicBezTo>
                <a:cubicBezTo>
                  <a:pt x="4153" y="5382"/>
                  <a:pt x="4066" y="5024"/>
                  <a:pt x="3919" y="4787"/>
                </a:cubicBezTo>
                <a:cubicBezTo>
                  <a:pt x="3868" y="4704"/>
                  <a:pt x="3795" y="4574"/>
                  <a:pt x="3721" y="4514"/>
                </a:cubicBezTo>
                <a:cubicBezTo>
                  <a:pt x="3638" y="4447"/>
                  <a:pt x="3447" y="4440"/>
                  <a:pt x="3349" y="4415"/>
                </a:cubicBezTo>
                <a:cubicBezTo>
                  <a:pt x="3271" y="4395"/>
                  <a:pt x="3201" y="4359"/>
                  <a:pt x="3125" y="4341"/>
                </a:cubicBezTo>
                <a:cubicBezTo>
                  <a:pt x="3082" y="4331"/>
                  <a:pt x="3056" y="4314"/>
                  <a:pt x="3001" y="4316"/>
                </a:cubicBezTo>
                <a:cubicBezTo>
                  <a:pt x="2951" y="4318"/>
                  <a:pt x="2915" y="4360"/>
                  <a:pt x="2877" y="4366"/>
                </a:cubicBezTo>
                <a:cubicBezTo>
                  <a:pt x="2786" y="4380"/>
                  <a:pt x="2700" y="4386"/>
                  <a:pt x="2604" y="4390"/>
                </a:cubicBezTo>
                <a:cubicBezTo>
                  <a:pt x="2506" y="4394"/>
                  <a:pt x="2417" y="4383"/>
                  <a:pt x="2332" y="4415"/>
                </a:cubicBezTo>
                <a:cubicBezTo>
                  <a:pt x="2252" y="4446"/>
                  <a:pt x="2153" y="4483"/>
                  <a:pt x="2084" y="4514"/>
                </a:cubicBezTo>
                <a:cubicBezTo>
                  <a:pt x="2018" y="4544"/>
                  <a:pt x="1960" y="4584"/>
                  <a:pt x="1885" y="4614"/>
                </a:cubicBezTo>
                <a:cubicBezTo>
                  <a:pt x="1805" y="4646"/>
                  <a:pt x="1735" y="4701"/>
                  <a:pt x="1662" y="4738"/>
                </a:cubicBezTo>
                <a:cubicBezTo>
                  <a:pt x="1574" y="4783"/>
                  <a:pt x="1467" y="4826"/>
                  <a:pt x="1389" y="4887"/>
                </a:cubicBezTo>
                <a:cubicBezTo>
                  <a:pt x="1321" y="4940"/>
                  <a:pt x="1255" y="5002"/>
                  <a:pt x="1191" y="5060"/>
                </a:cubicBezTo>
                <a:cubicBezTo>
                  <a:pt x="1101" y="5142"/>
                  <a:pt x="998" y="5253"/>
                  <a:pt x="943" y="5358"/>
                </a:cubicBezTo>
                <a:cubicBezTo>
                  <a:pt x="882" y="5476"/>
                  <a:pt x="845" y="5588"/>
                  <a:pt x="794" y="5705"/>
                </a:cubicBezTo>
                <a:cubicBezTo>
                  <a:pt x="773" y="5753"/>
                  <a:pt x="766" y="5788"/>
                  <a:pt x="744" y="5829"/>
                </a:cubicBezTo>
                <a:cubicBezTo>
                  <a:pt x="731" y="5854"/>
                  <a:pt x="728" y="5828"/>
                  <a:pt x="719" y="5854"/>
                </a:cubicBezTo>
                <a:cubicBezTo>
                  <a:pt x="809" y="5871"/>
                  <a:pt x="847" y="5825"/>
                  <a:pt x="918" y="5904"/>
                </a:cubicBezTo>
                <a:cubicBezTo>
                  <a:pt x="942" y="5931"/>
                  <a:pt x="984" y="6039"/>
                  <a:pt x="992" y="6102"/>
                </a:cubicBezTo>
                <a:cubicBezTo>
                  <a:pt x="1025" y="6350"/>
                  <a:pt x="1035" y="6714"/>
                  <a:pt x="943" y="6945"/>
                </a:cubicBezTo>
                <a:cubicBezTo>
                  <a:pt x="900" y="7054"/>
                  <a:pt x="812" y="7193"/>
                  <a:pt x="719" y="7268"/>
                </a:cubicBezTo>
                <a:cubicBezTo>
                  <a:pt x="658" y="7317"/>
                  <a:pt x="660" y="7318"/>
                  <a:pt x="571" y="7342"/>
                </a:cubicBezTo>
                <a:cubicBezTo>
                  <a:pt x="430" y="7380"/>
                  <a:pt x="407" y="7304"/>
                  <a:pt x="322" y="7417"/>
                </a:cubicBezTo>
                <a:cubicBezTo>
                  <a:pt x="264" y="7494"/>
                  <a:pt x="229" y="7620"/>
                  <a:pt x="223" y="7714"/>
                </a:cubicBezTo>
                <a:cubicBezTo>
                  <a:pt x="221" y="7745"/>
                  <a:pt x="210" y="7723"/>
                  <a:pt x="248" y="7789"/>
                </a:cubicBezTo>
                <a:cubicBezTo>
                  <a:pt x="264" y="7816"/>
                  <a:pt x="303" y="7815"/>
                  <a:pt x="322" y="7838"/>
                </a:cubicBezTo>
                <a:cubicBezTo>
                  <a:pt x="343" y="7864"/>
                  <a:pt x="364" y="7856"/>
                  <a:pt x="372" y="7888"/>
                </a:cubicBezTo>
                <a:cubicBezTo>
                  <a:pt x="374" y="7896"/>
                  <a:pt x="403" y="7918"/>
                  <a:pt x="397" y="7962"/>
                </a:cubicBezTo>
                <a:cubicBezTo>
                  <a:pt x="388" y="8033"/>
                  <a:pt x="294" y="8094"/>
                  <a:pt x="273" y="8161"/>
                </a:cubicBezTo>
                <a:cubicBezTo>
                  <a:pt x="255" y="8218"/>
                  <a:pt x="237" y="8285"/>
                  <a:pt x="223" y="8334"/>
                </a:cubicBezTo>
                <a:cubicBezTo>
                  <a:pt x="215" y="8364"/>
                  <a:pt x="198" y="8458"/>
                  <a:pt x="198" y="8458"/>
                </a:cubicBezTo>
                <a:cubicBezTo>
                  <a:pt x="198" y="8466"/>
                  <a:pt x="198" y="8475"/>
                  <a:pt x="198" y="8483"/>
                </a:cubicBezTo>
                <a:cubicBezTo>
                  <a:pt x="227" y="8491"/>
                  <a:pt x="272" y="8530"/>
                  <a:pt x="298" y="8533"/>
                </a:cubicBezTo>
                <a:cubicBezTo>
                  <a:pt x="349" y="8538"/>
                  <a:pt x="461" y="8509"/>
                  <a:pt x="471" y="8558"/>
                </a:cubicBezTo>
                <a:cubicBezTo>
                  <a:pt x="486" y="8630"/>
                  <a:pt x="428" y="8581"/>
                  <a:pt x="422" y="8632"/>
                </a:cubicBezTo>
                <a:cubicBezTo>
                  <a:pt x="422" y="8657"/>
                  <a:pt x="422" y="8665"/>
                  <a:pt x="397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3"/>
          <p:cNvSpPr/>
          <p:nvPr/>
        </p:nvSpPr>
        <p:spPr>
          <a:xfrm>
            <a:off x="6877080" y="42210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前端（口）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80400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环带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6804000" y="220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体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6804000" y="76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后端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45" name="Picture 22" descr="d56b36345d8cd5705bb5f5c0"/>
          <p:cNvPicPr/>
          <p:nvPr/>
        </p:nvPicPr>
        <p:blipFill>
          <a:blip r:embed="rId2"/>
          <a:stretch/>
        </p:blipFill>
        <p:spPr>
          <a:xfrm>
            <a:off x="250920" y="260280"/>
            <a:ext cx="6227640" cy="5184720"/>
          </a:xfrm>
          <a:prstGeom prst="rect">
            <a:avLst/>
          </a:prstGeom>
          <a:ln w="0">
            <a:noFill/>
          </a:ln>
        </p:spPr>
      </p:pic>
      <p:sp>
        <p:nvSpPr>
          <p:cNvPr id="246" name="Line 23"/>
          <p:cNvSpPr/>
          <p:nvPr/>
        </p:nvSpPr>
        <p:spPr>
          <a:xfrm>
            <a:off x="5651640" y="450864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572000" y="3429000"/>
            <a:ext cx="2305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067280" y="2421000"/>
            <a:ext cx="28098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755640" y="1125360"/>
            <a:ext cx="6264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9640" y="189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环节动物的主要特征：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身体分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371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分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指身体由前向后分成许多相似而又重复排列的部分，称为体节，这种现象称为分节现象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54" name="Picture 5" descr="u=3582017718,2692710101&amp;fm=52&amp;gp=0"/>
          <p:cNvPicPr/>
          <p:nvPr/>
        </p:nvPicPr>
        <p:blipFill>
          <a:blip r:embed="rId2"/>
          <a:stretch/>
        </p:blipFill>
        <p:spPr>
          <a:xfrm>
            <a:off x="2819520" y="24382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692280"/>
            <a:ext cx="89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33cc"/>
                </a:solidFill>
                <a:latin typeface="华文楷体"/>
                <a:ea typeface="华文楷体"/>
              </a:rPr>
              <a:t>第二节  线形动物</a:t>
            </a:r>
            <a:r>
              <a:rPr b="1" lang="zh-CN" sz="5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5000" spc="-1" strike="noStrike">
                <a:solidFill>
                  <a:srgbClr val="0033cc"/>
                </a:solidFill>
                <a:latin typeface="华文楷体"/>
                <a:ea typeface="华文楷体"/>
              </a:rPr>
              <a:t>环节动物</a:t>
            </a:r>
            <a:endParaRPr b="0" lang="en-US" sz="5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00600" y="1844640"/>
            <a:ext cx="4343400" cy="470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52600" y="1844640"/>
            <a:ext cx="38862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4954680" y="476280"/>
            <a:ext cx="4189320" cy="31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蚯蚓的身体呈什么形？它是由什么构成的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体形：身体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圆筒形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由许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似的环状体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构成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区分蚯蚓的前端和后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环带（前端）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判断蚯蚓前、后端的重要标志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1890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：观察蚯蚓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859280" cy="5111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211640" y="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5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663200" y="98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观察蚯蚓的外部形态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948360" y="4221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前端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环带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6804000" y="220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体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76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后端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227640" cy="5184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651640" y="4508640"/>
            <a:ext cx="1368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429000"/>
            <a:ext cx="2305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2421000"/>
            <a:ext cx="28098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1125360"/>
            <a:ext cx="6264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3059280" y="189000"/>
            <a:ext cx="6084720" cy="23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触摸蚯蚓体节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腹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滑还是粗糙的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运动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身体分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使它的躯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运动灵活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体壁上发达的刚毛与肌肉配合完成运动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蚯蚓的体表，是干燥还是湿润的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916360" y="364500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蚯蚓在硬纸板上与在玻璃板上的运动速度一样吗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916360" y="479736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不一样，在硬纸板上运动速度快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217880" y="68544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出现了原始的运动器官——刚毛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环节动物门的主要特征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75" name="Picture 6" descr="u=2882476561,751868936&amp;fm=52&amp;gp=0"/>
          <p:cNvPicPr/>
          <p:nvPr/>
        </p:nvPicPr>
        <p:blipFill>
          <a:blip r:embed="rId2"/>
          <a:stretch/>
        </p:blipFill>
        <p:spPr>
          <a:xfrm>
            <a:off x="3419640" y="1484280"/>
            <a:ext cx="5724360" cy="5373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rcRect l="11215" t="6783" r="7848" b="6783"/>
          <a:stretch/>
        </p:blipFill>
        <p:spPr>
          <a:xfrm>
            <a:off x="0" y="1700280"/>
            <a:ext cx="3059280" cy="4824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13840" y="4133880"/>
            <a:ext cx="608040" cy="98280"/>
          </a:xfrm>
          <a:custGeom>
            <a:avLst/>
            <a:gdLst/>
            <a:ahLst/>
            <a:rect l="l" t="t" r="r" b="b"/>
            <a:pathLst>
              <a:path w="1688" h="273">
                <a:moveTo>
                  <a:pt x="23093" y="11485"/>
                </a:moveTo>
                <a:cubicBezTo>
                  <a:pt x="23135" y="11509"/>
                  <a:pt x="23149" y="11495"/>
                  <a:pt x="23192" y="11509"/>
                </a:cubicBezTo>
                <a:cubicBezTo>
                  <a:pt x="23236" y="11524"/>
                  <a:pt x="23263" y="11532"/>
                  <a:pt x="23316" y="11534"/>
                </a:cubicBezTo>
                <a:cubicBezTo>
                  <a:pt x="23389" y="11536"/>
                  <a:pt x="23445" y="11555"/>
                  <a:pt x="23515" y="11559"/>
                </a:cubicBezTo>
                <a:cubicBezTo>
                  <a:pt x="23644" y="11566"/>
                  <a:pt x="23762" y="11566"/>
                  <a:pt x="23887" y="11584"/>
                </a:cubicBezTo>
                <a:cubicBezTo>
                  <a:pt x="23928" y="11590"/>
                  <a:pt x="23973" y="11604"/>
                  <a:pt x="24011" y="11609"/>
                </a:cubicBezTo>
                <a:cubicBezTo>
                  <a:pt x="24073" y="11617"/>
                  <a:pt x="24087" y="11644"/>
                  <a:pt x="24135" y="11658"/>
                </a:cubicBezTo>
                <a:cubicBezTo>
                  <a:pt x="24177" y="11670"/>
                  <a:pt x="24244" y="11665"/>
                  <a:pt x="24284" y="11683"/>
                </a:cubicBezTo>
                <a:cubicBezTo>
                  <a:pt x="24327" y="11703"/>
                  <a:pt x="24332" y="11705"/>
                  <a:pt x="24383" y="11708"/>
                </a:cubicBezTo>
                <a:cubicBezTo>
                  <a:pt x="24431" y="11711"/>
                  <a:pt x="24470" y="11726"/>
                  <a:pt x="24507" y="11733"/>
                </a:cubicBezTo>
                <a:cubicBezTo>
                  <a:pt x="24592" y="11750"/>
                  <a:pt x="24677" y="11735"/>
                  <a:pt x="24755" y="11757"/>
                </a:cubicBezTo>
                <a:cubicBezTo>
                  <a:pt x="24763" y="11757"/>
                  <a:pt x="24772" y="11757"/>
                  <a:pt x="24780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0"/>
            <a:ext cx="856908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观察蚯蚓的横切面，它的肠壁有什么特点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消化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口有肛门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肠壁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有发达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肌肉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，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蠕动消化食物</a:t>
            </a:r>
            <a:r>
              <a:rPr b="1" lang="zh-CN" sz="3200" spc="-1" strike="noStrike">
                <a:solidFill>
                  <a:srgbClr val="7d7da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279" name="Object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86421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95280" y="4653000"/>
            <a:ext cx="8422560" cy="1152000"/>
            <a:chOff x="395280" y="4653000"/>
            <a:chExt cx="8422560" cy="1152000"/>
          </a:xfrm>
        </p:grpSpPr>
        <p:sp>
          <p:nvSpPr>
            <p:cNvPr id="281" name="圆角矩形 8"/>
            <p:cNvSpPr/>
            <p:nvPr/>
          </p:nvSpPr>
          <p:spPr>
            <a:xfrm>
              <a:off x="395280" y="4653000"/>
              <a:ext cx="8422560" cy="115200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282" name="TextBox 13"/>
            <p:cNvSpPr/>
            <p:nvPr/>
          </p:nvSpPr>
          <p:spPr>
            <a:xfrm>
              <a:off x="1088640" y="4808880"/>
              <a:ext cx="6987600" cy="51732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9640" y="3429000"/>
            <a:ext cx="5111640" cy="714240"/>
            <a:chOff x="539640" y="3429000"/>
            <a:chExt cx="5111640" cy="714240"/>
          </a:xfrm>
        </p:grpSpPr>
        <p:sp>
          <p:nvSpPr>
            <p:cNvPr id="284" name="圆角矩形 8"/>
            <p:cNvSpPr/>
            <p:nvPr/>
          </p:nvSpPr>
          <p:spPr>
            <a:xfrm>
              <a:off x="539640" y="3429000"/>
              <a:ext cx="511164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285" name="TextBox 13"/>
            <p:cNvSpPr/>
            <p:nvPr/>
          </p:nvSpPr>
          <p:spPr>
            <a:xfrm>
              <a:off x="960480" y="3525840"/>
              <a:ext cx="4240800" cy="51912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39640" y="2133720"/>
            <a:ext cx="7343640" cy="714240"/>
            <a:chOff x="539640" y="2133720"/>
            <a:chExt cx="7343640" cy="714240"/>
          </a:xfrm>
        </p:grpSpPr>
        <p:sp>
          <p:nvSpPr>
            <p:cNvPr id="287" name="圆角矩形 8"/>
            <p:cNvSpPr/>
            <p:nvPr/>
          </p:nvSpPr>
          <p:spPr>
            <a:xfrm>
              <a:off x="539640" y="2133720"/>
              <a:ext cx="734364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288" name="TextBox 13"/>
            <p:cNvSpPr/>
            <p:nvPr/>
          </p:nvSpPr>
          <p:spPr>
            <a:xfrm>
              <a:off x="1144440" y="2230560"/>
              <a:ext cx="6092280" cy="51912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9640" y="1052640"/>
            <a:ext cx="5903640" cy="714240"/>
            <a:chOff x="539640" y="1052640"/>
            <a:chExt cx="5903640" cy="714240"/>
          </a:xfrm>
        </p:grpSpPr>
        <p:sp>
          <p:nvSpPr>
            <p:cNvPr id="290" name="圆角矩形 8"/>
            <p:cNvSpPr/>
            <p:nvPr/>
          </p:nvSpPr>
          <p:spPr>
            <a:xfrm>
              <a:off x="539640" y="1052640"/>
              <a:ext cx="5903640" cy="714240"/>
            </a:xfrm>
            <a:prstGeom prst="roundRect">
              <a:avLst>
                <a:gd name="adj" fmla="val 16667"/>
              </a:avLst>
            </a:prstGeom>
            <a:solidFill>
              <a:srgbClr val="a6f4f8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291" name="TextBox 13"/>
            <p:cNvSpPr/>
            <p:nvPr/>
          </p:nvSpPr>
          <p:spPr>
            <a:xfrm>
              <a:off x="1025640" y="1149480"/>
              <a:ext cx="4897800" cy="519120"/>
            </a:xfrm>
            <a:prstGeom prst="rect">
              <a:avLst/>
            </a:prstGeom>
            <a:solidFill>
              <a:srgbClr val="a6f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sp>
        <p:nvSpPr>
          <p:cNvPr id="292" name="矩形 9"/>
          <p:cNvSpPr/>
          <p:nvPr/>
        </p:nvSpPr>
        <p:spPr>
          <a:xfrm>
            <a:off x="97164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是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900000" y="5805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蚯蚓没有呼吸系统，要靠能分泌黏液而湿润的体壁进行呼吸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4" name="矩形 12"/>
          <p:cNvSpPr/>
          <p:nvPr/>
        </p:nvSpPr>
        <p:spPr>
          <a:xfrm>
            <a:off x="971640" y="4221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协助运动，固定身体的作用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5" name="矩形 13"/>
          <p:cNvSpPr/>
          <p:nvPr/>
        </p:nvSpPr>
        <p:spPr>
          <a:xfrm>
            <a:off x="826920" y="292428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可使身体运动灵活、自如、转向方便。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684360" y="260280"/>
            <a:ext cx="10152000" cy="7034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阅读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9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请回答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10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7" name="矩形 9"/>
          <p:cNvSpPr/>
          <p:nvPr/>
        </p:nvSpPr>
        <p:spPr>
          <a:xfrm>
            <a:off x="755640" y="1125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蚯蚓的身体是否两侧对称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82640" y="2205000"/>
            <a:ext cx="35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身体分节对于运动有什么意义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99" name="矩形 9"/>
          <p:cNvSpPr/>
          <p:nvPr/>
        </p:nvSpPr>
        <p:spPr>
          <a:xfrm>
            <a:off x="1620360" y="3500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刚毛在运动中起什么作用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3307320" y="479736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、体表黏液有什么意义？在实验过程中为什么要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微软雅黑"/>
              </a:rPr>
              <a:t>使蚯蚓体表保持湿润？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1225440"/>
            <a:ext cx="8964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蚯蚓的呼吸靠湿润的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来完成。空气中的氧气渗进体壁里的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由它带给身体各细胞。为了保证蚯蚓的呼吸作用，课堂实验中，要经常用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轻擦蚯蚓体表，使体表保持湿润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22334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毛细血管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282920" y="331308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浸水的湿棉球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11001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体壁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324000" y="692280"/>
            <a:ext cx="7726320" cy="5745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环节动物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35280" y="1052640"/>
            <a:ext cx="64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华文新魏"/>
                <a:ea typeface="华文新魏"/>
              </a:rPr>
              <a:t>蚯蚓如何呼吸？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960" y="2362320"/>
            <a:ext cx="1399320" cy="3886200"/>
          </a:xfrm>
          <a:prstGeom prst="rect">
            <a:avLst/>
          </a:prstGeom>
          <a:noFill/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外 界 空 气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594880" y="2286000"/>
            <a:ext cx="1399320" cy="3886200"/>
          </a:xfrm>
          <a:prstGeom prst="rect">
            <a:avLst/>
          </a:prstGeom>
          <a:noFill/>
          <a:ln w="507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体 表 黏 液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5083920" y="2286000"/>
            <a:ext cx="1399320" cy="3886200"/>
          </a:xfrm>
          <a:prstGeom prst="rect">
            <a:avLst/>
          </a:prstGeom>
          <a:noFill/>
          <a:ln w="507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体壁的毛细血管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7446240" y="2209680"/>
            <a:ext cx="1399320" cy="3886200"/>
          </a:xfrm>
          <a:prstGeom prst="rect">
            <a:avLst/>
          </a:prstGeom>
          <a:noFill/>
          <a:ln w="507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ahoma"/>
                <a:ea typeface="楷体_GB2312"/>
              </a:rPr>
              <a:t>全 身 各 处细 胞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447920" y="2819520"/>
            <a:ext cx="1676160" cy="609480"/>
            <a:chOff x="1447920" y="2819520"/>
            <a:chExt cx="1676160" cy="609480"/>
          </a:xfrm>
        </p:grpSpPr>
        <p:sp>
          <p:nvSpPr>
            <p:cNvPr id="312" name=""/>
            <p:cNvSpPr/>
            <p:nvPr/>
          </p:nvSpPr>
          <p:spPr>
            <a:xfrm>
              <a:off x="1447920" y="3429000"/>
              <a:ext cx="167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52480" y="281952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氧气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038480" y="5029200"/>
            <a:ext cx="1676520" cy="672840"/>
            <a:chOff x="4038480" y="5029200"/>
            <a:chExt cx="1676520" cy="672840"/>
          </a:xfrm>
        </p:grpSpPr>
        <p:sp>
          <p:nvSpPr>
            <p:cNvPr id="315" name=""/>
            <p:cNvSpPr/>
            <p:nvPr/>
          </p:nvSpPr>
          <p:spPr>
            <a:xfrm>
              <a:off x="4038480" y="5029200"/>
              <a:ext cx="1676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67080" y="5181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二氧化碳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962520" y="2819520"/>
            <a:ext cx="1676160" cy="609480"/>
            <a:chOff x="3962520" y="2819520"/>
            <a:chExt cx="1676160" cy="609480"/>
          </a:xfrm>
        </p:grpSpPr>
        <p:sp>
          <p:nvSpPr>
            <p:cNvPr id="318" name=""/>
            <p:cNvSpPr/>
            <p:nvPr/>
          </p:nvSpPr>
          <p:spPr>
            <a:xfrm>
              <a:off x="3962520" y="3429000"/>
              <a:ext cx="167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67080" y="281952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氧气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400800" y="2819520"/>
            <a:ext cx="1676520" cy="609480"/>
            <a:chOff x="6400800" y="2819520"/>
            <a:chExt cx="1676520" cy="609480"/>
          </a:xfrm>
        </p:grpSpPr>
        <p:sp>
          <p:nvSpPr>
            <p:cNvPr id="321" name=""/>
            <p:cNvSpPr/>
            <p:nvPr/>
          </p:nvSpPr>
          <p:spPr>
            <a:xfrm>
              <a:off x="6400800" y="3429000"/>
              <a:ext cx="1676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05720" y="2819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氧气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447920" y="5029200"/>
            <a:ext cx="1676160" cy="672840"/>
            <a:chOff x="1447920" y="5029200"/>
            <a:chExt cx="1676160" cy="672840"/>
          </a:xfrm>
        </p:grpSpPr>
        <p:sp>
          <p:nvSpPr>
            <p:cNvPr id="324" name=""/>
            <p:cNvSpPr/>
            <p:nvPr/>
          </p:nvSpPr>
          <p:spPr>
            <a:xfrm>
              <a:off x="1447920" y="5029200"/>
              <a:ext cx="1676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160" y="518148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二氧化碳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477120" y="5029200"/>
            <a:ext cx="1523880" cy="1099440"/>
            <a:chOff x="6477120" y="5029200"/>
            <a:chExt cx="1523880" cy="1099440"/>
          </a:xfrm>
        </p:grpSpPr>
        <p:sp>
          <p:nvSpPr>
            <p:cNvPr id="327" name=""/>
            <p:cNvSpPr/>
            <p:nvPr/>
          </p:nvSpPr>
          <p:spPr>
            <a:xfrm>
              <a:off x="6477120" y="5029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4840" y="5181480"/>
              <a:ext cx="96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ahoma"/>
                  <a:ea typeface="楷体_GB2312"/>
                </a:rPr>
                <a:t>二氧化碳</a:t>
              </a:r>
              <a:endParaRPr b="0" lang="en-US" sz="28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39640" y="260280"/>
            <a:ext cx="93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蚯蚓依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湿润的体壁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进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呼吸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雨后，蚯蚓往往会看到地面上来，这是为什么？如果农田中的蚯蚓消失了，农作物的生长会不会受到影响？为什么？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2205000"/>
            <a:ext cx="896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蚯蚓通过体壁毛细血管获得氧气，雨后土壤中含氧过少，所以爬出地面获得氧气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会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1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904760" cy="3438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96720" y="44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蚯蚓与人类关系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1080" y="1125360"/>
            <a:ext cx="66229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蚯蚓在土壤里活动可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使土壤疏松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有利于植物生长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可用来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Tahoma"/>
              </a:rPr>
              <a:t>处理有机废物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（主要吃含有有机物的腐殖土。），消除环境污染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蚯蚓的排泄物可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提高土壤肥力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（是一种高效的有机肥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蚯蚓体内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含有丰富的蛋白质和脂肪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是优良的饲料和食品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50920" y="3500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87640" y="836640"/>
            <a:ext cx="5833800" cy="1589040"/>
            <a:chOff x="2987640" y="836640"/>
            <a:chExt cx="5833800" cy="1589040"/>
          </a:xfrm>
        </p:grpSpPr>
        <p:sp>
          <p:nvSpPr>
            <p:cNvPr id="100" name="横卷形 4"/>
            <p:cNvSpPr/>
            <p:nvPr/>
          </p:nvSpPr>
          <p:spPr>
            <a:xfrm>
              <a:off x="2987640" y="836640"/>
              <a:ext cx="5833800" cy="15890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ahoma"/>
              </a:endParaRPr>
            </a:p>
          </p:txBody>
        </p:sp>
        <p:sp>
          <p:nvSpPr>
            <p:cNvPr id="101" name="TextBox 1"/>
            <p:cNvSpPr/>
            <p:nvPr/>
          </p:nvSpPr>
          <p:spPr>
            <a:xfrm>
              <a:off x="3775320" y="1152360"/>
              <a:ext cx="416664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学习目标</a:t>
              </a:r>
              <a:r>
                <a:rPr b="1" lang="en-US" sz="5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1’</a:t>
              </a:r>
              <a:endParaRPr b="0" lang="en-US" sz="5400" spc="-1" strike="noStrike">
                <a:solidFill>
                  <a:srgbClr val="0033cc"/>
                </a:solidFill>
                <a:latin typeface="Tahoma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 rot="304200">
            <a:off x="178920" y="189000"/>
            <a:ext cx="2362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齐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6864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掌握线形动物和环节动物的主要特征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了解它们与人类的关系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1440" cy="4319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rcRect l="6176" t="13096" r="4609" b="10402"/>
          <a:stretch/>
        </p:blipFill>
        <p:spPr>
          <a:xfrm>
            <a:off x="4067280" y="3213000"/>
            <a:ext cx="5076720" cy="3645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1280" y="4653000"/>
            <a:ext cx="16570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Narrow"/>
              </a:rPr>
              <a:t>沙蚕</a:t>
            </a:r>
            <a:endParaRPr b="0" lang="en-US" sz="45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003640" y="227664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蛭（又叫蚂蝗）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5148360" y="260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其它环节动物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20600" y="27000"/>
            <a:ext cx="4762440" cy="6281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219640" y="907920"/>
            <a:ext cx="34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</a:rPr>
              <a:t>沙蚕生活在海洋中，身体有许相似的体节组成，体节两侧均有突起，突起上有刚毛，这些称为疣足，可用于爬行和游泳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4724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疣足：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体壁的向外突起中空，与体壁 相通。疣足本身不分节，是运动器官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2286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蛭的唾液中有防止血液凝固的物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蛭素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。利用提取到的蛭素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生抗血栓药物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也可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利用医蛭吸取创口瘀血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731520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593064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854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沙蚕是鱼、虾、蟹的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食饵</a:t>
            </a:r>
            <a:r>
              <a:rPr b="1" lang="en-US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蛭的唾液有防止血液凝固的物质——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蛭素，生产抗血栓药物</a:t>
            </a:r>
            <a:r>
              <a:rPr b="1" lang="en-US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19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沙蚕、蛭与人类的关系：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47640" y="119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环节动物的主要特征：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755640" y="2349360"/>
            <a:ext cx="755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身体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由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许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彼此相似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组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辅助运动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916360" y="2276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圆筒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2987640" y="2997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体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6443640" y="285264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刚毛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500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疣足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42920" y="3932280"/>
            <a:ext cx="773928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、线形动物：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蛔虫、</a:t>
            </a:r>
            <a:r>
              <a:rPr b="1" lang="zh-CN" sz="2800" spc="-1" strike="noStrike">
                <a:solidFill>
                  <a:srgbClr val="0033cc"/>
                </a:solidFill>
                <a:latin typeface="交通标志专用字体"/>
                <a:ea typeface="交通标志专用字体"/>
              </a:rPr>
              <a:t>饶虫、钩虫、丝虫、线虫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62064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1</a:t>
            </a: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线形动物</a:t>
            </a: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的主要特征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141300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身体细长，呈圆柱形；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体表有角质层；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交通标志专用字体"/>
              </a:rPr>
              <a:t>有口有肛门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4000" y="333360"/>
            <a:ext cx="75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、环节动物的主要特征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1413000"/>
            <a:ext cx="5616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长城特圆体"/>
              </a:rPr>
              <a:t>身体呈圆筒形；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长城特圆体"/>
              </a:rPr>
              <a:t>由许多彼此相似的体节组成；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长城特圆体"/>
              </a:rPr>
              <a:t>靠刚毛或疣足辅助运动。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364500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长城特圆体"/>
                <a:ea typeface="长城特圆体"/>
              </a:rPr>
              <a:t>、环节动物：蚯蚓、</a:t>
            </a:r>
            <a:r>
              <a:rPr b="1" lang="zh-CN" sz="3000" spc="-1" strike="noStrike">
                <a:solidFill>
                  <a:srgbClr val="0033cc"/>
                </a:solidFill>
                <a:latin typeface="交通标志专用字体"/>
                <a:ea typeface="交通标志专用字体"/>
              </a:rPr>
              <a:t>沙蚕、蛭</a:t>
            </a:r>
            <a:endParaRPr b="0" lang="en-US" sz="3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2692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11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98100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下列说法是否正确。正确的画“√”，错误的画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×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线形动物都是寄生的。（     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蚯蚓的运动是仅靠刚毛完成的。（      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以下动物中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属于环节动物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属于线形动物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蛔虫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蚯蚓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小麦线虫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丝虫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蛭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蚕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84464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7308720" y="234936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2843280" y="2852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F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093080" y="2852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CD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4437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何区别某个动物是环节动物还是线形动物？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50846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环节动物的身体分节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44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自由生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如秀丽隐杆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线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05264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线形动物因体形细长如线得名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、线形动物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290680" cy="325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77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寄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如蛔虫；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蛔虫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483680" y="2924280"/>
            <a:ext cx="127764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秀丽隐杆线虫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rcRect l="0" t="0" r="65325" b="0"/>
          <a:stretch/>
        </p:blipFill>
        <p:spPr>
          <a:xfrm>
            <a:off x="1403280" y="3213000"/>
            <a:ext cx="316872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55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说说我们已学习了哪几种动物类群？它们有什么主要特征？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79280" y="1628640"/>
          <a:ext cx="8813880" cy="4687920"/>
        </p:xfrm>
        <a:graphic>
          <a:graphicData uri="http://schemas.openxmlformats.org/drawingml/2006/table">
            <a:tbl>
              <a:tblPr/>
              <a:tblGrid>
                <a:gridCol w="1508040"/>
                <a:gridCol w="1781280"/>
                <a:gridCol w="1854360"/>
                <a:gridCol w="1782720"/>
                <a:gridCol w="1887480"/>
              </a:tblGrid>
              <a:tr h="79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动物类群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代表动物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身体对称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口与肛门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有口无肛门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其它特征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1763640" y="1844640"/>
            <a:ext cx="31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腔肠动物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3635280" y="184464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扁形动物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5364000" y="1844640"/>
            <a:ext cx="28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线形动物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236000" y="191628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环节动物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2565360"/>
            <a:ext cx="31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水螅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564000" y="256536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涡虫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256536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蛔虫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7236000" y="263700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蚯蚓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763640" y="3429000"/>
            <a:ext cx="31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辐射对称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3564000" y="342900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侧对称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3429000"/>
            <a:ext cx="31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侧对称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5940360" y="4437000"/>
            <a:ext cx="31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有口有肛门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692360" y="5300640"/>
            <a:ext cx="3166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体表有刺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5373720"/>
            <a:ext cx="31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背腹扁平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5148360" y="5084640"/>
            <a:ext cx="3166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身体细长，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呈圆柱形，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体表有角质层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7308720" y="5300640"/>
            <a:ext cx="31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身体由体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节组成</a:t>
            </a:r>
            <a:endParaRPr b="0" lang="en-US" sz="26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1225440"/>
            <a:ext cx="8964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、蚯蚓的呼吸靠湿润的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来完成。空气中的氧气渗进体壁里的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，由它带给身体各细胞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22334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毛细血管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5435640" y="11001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体壁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050920" y="333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补充练习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做实验时，区别蚯蚓前端和后端的主要依据是蚯蚓的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蚯蚓在干燥的灰尘里和沙里，很快会死去，是因为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夏天的雨后，常有一些蚯蚓爬出地面，这是因为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蚯蚓刚毛的作用是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1268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环带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3972240" y="2492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体表黏液干燥，呼吸无法进行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35280" y="3645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土中缺氧，蚯蚓无法呼吸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429264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协助运动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609480"/>
            <a:ext cx="92962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2.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把蚯蚓放在玻璃板上不能运动的原因是</a:t>
            </a: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______________________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3.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环节动物的共同特征是</a:t>
            </a: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____________________________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"/>
                <a:ea typeface="楷体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区分蚯蚓前后端的标志</a:t>
            </a: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__________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431800" y="1268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刚毛无法支撑身体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155600" y="299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身体由许多体节构成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5937840" y="3789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身体前端有环带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588160" cy="4681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下列哪个不是环节动物的特点（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身体分节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体表干燥光滑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体表有粘液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生活在水中或潮湿的陆地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区分蚯蚓前端和后端的正确方法是（ ）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环带靠近前端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环带靠近后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有刚毛的一面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无刚毛的一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020000" y="14842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4284720" y="0"/>
            <a:ext cx="45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试一试，你能行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885080" y="3860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在下列蛔虫的形态结构特点中，哪项是不属于适于寄生生活的（　）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　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身体呈圆柱形     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体表有角质层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生殖器官发达     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消化管结构简单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773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蛔虫进入人体是通过（　）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呼吸道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口腔 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蚊虫叮咬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皮肤 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708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能正常生活的蚯蚓，其体表状况应为（     ）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湿润、光滑     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干燥、光滑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湿润、粗糙     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干燥、粗糙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93372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在做观察蚯蚓的实验时，下列哪种操作可以使蚯蚓处于正常的生活状态（    ）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环境气体流通好，使蚯蚓体表干燥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将蚯蚓的体表涂抹凡士林，使体表保持湿润　　    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将蚯蚓放入水中，避免体壁变干燥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经常用浸过水的棉球轻擦蚯蚓体表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290520"/>
            <a:ext cx="96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110120" y="165888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877080" y="263700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4365720"/>
            <a:ext cx="6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 rot="5400000">
            <a:off x="7455240" y="1577160"/>
            <a:ext cx="2140200" cy="1236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隶书"/>
              </a:rPr>
              <a:t>练一练</a:t>
            </a:r>
            <a:endParaRPr b="1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4428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、蚯蚓的生存环境是（      ）。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干燥，疏松的土壤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潮湿，疏松，富含氧气的土壤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潮湿，疏松，富含有机物的土壤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潮湿，疏松，植物稀少的土壤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71280" y="184464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、雨后，常见到地面上有一些蚯蚓，这是因为（    ）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蚯蚓爬出地面呼吸　      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蚯蚓爬出地面饮水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蚯蚓喜欢在潮湿的地面爬行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借助潮湿的地面，蚯蚓可以迅速改变生存环境 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645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、蚯蚓的体壁总是湿润的，这有利于蚯蚓（      ）。　　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完成呼吸 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在土壤中运动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吸收营养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保持水分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508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、蚯蚓体表刚毛的作用是（       ）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防御敌害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协助运动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捕杀小动物 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．协助呼吸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5516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、区别蚯蚓前后端的依据是（    ）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肛门的位置  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体节的多少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口的位置 </a:t>
            </a: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D 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环带的位置 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4211640" y="-22320"/>
            <a:ext cx="6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7956720" y="170028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7236000" y="3429000"/>
            <a:ext cx="6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4859280" y="4365720"/>
            <a:ext cx="6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5003640" y="5445000"/>
            <a:ext cx="6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、蚯蚓体表的黏液与哪种生理活动有关？（                           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、蚯蚓在土壤中穴居生活，使土壤变得疏松，这有利于农作物（                       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、蚯蚓属于哪一个动物类群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? (               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19280" y="549360"/>
            <a:ext cx="15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呼吸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5364000" y="17002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根的呼吸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5796000" y="234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环节动物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1" descr="p_large_k5U1_0afb000068e22d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65325" b="0"/>
          <a:stretch/>
        </p:blipFill>
        <p:spPr>
          <a:xfrm>
            <a:off x="2700360" y="1773360"/>
            <a:ext cx="2881440" cy="44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（一）代表动物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蛔虫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00720" y="189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表动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蛔虫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15" name="矩形 1" descr=""/>
          <p:cNvPicPr/>
          <p:nvPr/>
        </p:nvPicPr>
        <p:blipFill>
          <a:blip r:embed="rId2"/>
          <a:stretch/>
        </p:blipFill>
        <p:spPr>
          <a:xfrm>
            <a:off x="-395280" y="0"/>
            <a:ext cx="490680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05240" y="907920"/>
            <a:ext cx="483876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907920"/>
            <a:ext cx="3745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活习性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活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体形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前端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后端有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表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能抵抗消化液侵蚀，具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5573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寄生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064520" y="299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圆柱形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00404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口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684960" y="364500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肛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567800" y="4941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角质层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38040" y="595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保护作用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00720" y="189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观察蛔虫结构示意图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25" name="矩形 1" descr=""/>
          <p:cNvPicPr/>
          <p:nvPr/>
        </p:nvPicPr>
        <p:blipFill>
          <a:blip r:embed="rId2"/>
          <a:stretch/>
        </p:blipFill>
        <p:spPr>
          <a:xfrm>
            <a:off x="-395280" y="-169920"/>
            <a:ext cx="4906800" cy="1284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907920"/>
            <a:ext cx="374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消化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消化管结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肠仅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细胞组成，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生殖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殖器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生殖能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运动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127" name="Picture 3" descr="未命名"/>
          <p:cNvPicPr/>
          <p:nvPr/>
        </p:nvPicPr>
        <p:blipFill>
          <a:blip r:embed="rId3"/>
          <a:stretch/>
        </p:blipFill>
        <p:spPr>
          <a:xfrm>
            <a:off x="4211640" y="692280"/>
            <a:ext cx="4716360" cy="5689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21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简单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825560" y="2133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层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309760" y="26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消化食糜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21652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发达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154960" y="458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强</a:t>
            </a:r>
            <a:endParaRPr b="0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7340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门的运动器官，只能靠身体的弯曲和伸展缓慢的蠕动。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45440" y="573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219640" y="259920"/>
            <a:ext cx="3672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活的蛔虫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乳白色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粉红色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，体长可达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cm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雌雄异体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5" descr="4ec2d5628535e5ddc088f12876c6a7efcf1b62a4"/>
          <p:cNvPicPr/>
          <p:nvPr/>
        </p:nvPicPr>
        <p:blipFill>
          <a:blip r:embed="rId2"/>
          <a:stretch/>
        </p:blipFill>
        <p:spPr>
          <a:xfrm>
            <a:off x="0" y="260280"/>
            <a:ext cx="519264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292720" y="2781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雌虫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长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、尾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尖直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292720" y="443700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雄虫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短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、尾端向腹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33cc"/>
                </a:solidFill>
                <a:latin typeface="Calibri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468360" y="189000"/>
            <a:ext cx="371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 </a:t>
            </a:r>
            <a:endParaRPr b="1" lang="en-US" sz="4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7893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雄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393372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雌</a:t>
            </a:r>
            <a:endParaRPr b="0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259240" y="2660760"/>
            <a:ext cx="3884760" cy="3911400"/>
          </a:xfrm>
          <a:custGeom>
            <a:avLst/>
            <a:gdLst/>
            <a:ahLst/>
            <a:rect l="l" t="t" r="r" b="b"/>
            <a:pathLst>
              <a:path w="10791" h="10865">
                <a:moveTo>
                  <a:pt x="15056" y="7466"/>
                </a:moveTo>
                <a:cubicBezTo>
                  <a:pt x="15094" y="7464"/>
                  <a:pt x="15311" y="7442"/>
                  <a:pt x="15379" y="7441"/>
                </a:cubicBezTo>
                <a:cubicBezTo>
                  <a:pt x="16793" y="7415"/>
                  <a:pt x="18213" y="7438"/>
                  <a:pt x="19621" y="7392"/>
                </a:cubicBezTo>
                <a:cubicBezTo>
                  <a:pt x="20118" y="7376"/>
                  <a:pt x="20723" y="7311"/>
                  <a:pt x="21208" y="7417"/>
                </a:cubicBezTo>
                <a:cubicBezTo>
                  <a:pt x="21603" y="7503"/>
                  <a:pt x="22032" y="7721"/>
                  <a:pt x="22399" y="7888"/>
                </a:cubicBezTo>
                <a:cubicBezTo>
                  <a:pt x="22913" y="8123"/>
                  <a:pt x="23423" y="8386"/>
                  <a:pt x="23937" y="8607"/>
                </a:cubicBezTo>
                <a:cubicBezTo>
                  <a:pt x="24236" y="8736"/>
                  <a:pt x="24544" y="8852"/>
                  <a:pt x="24829" y="9004"/>
                </a:cubicBezTo>
                <a:cubicBezTo>
                  <a:pt x="24944" y="9065"/>
                  <a:pt x="25076" y="9148"/>
                  <a:pt x="25177" y="9227"/>
                </a:cubicBezTo>
                <a:cubicBezTo>
                  <a:pt x="25233" y="9271"/>
                  <a:pt x="25312" y="9267"/>
                  <a:pt x="25350" y="9327"/>
                </a:cubicBezTo>
                <a:cubicBezTo>
                  <a:pt x="25480" y="9534"/>
                  <a:pt x="25378" y="10035"/>
                  <a:pt x="25375" y="10244"/>
                </a:cubicBezTo>
                <a:cubicBezTo>
                  <a:pt x="25371" y="10510"/>
                  <a:pt x="25387" y="10769"/>
                  <a:pt x="25375" y="11038"/>
                </a:cubicBezTo>
                <a:cubicBezTo>
                  <a:pt x="25362" y="11341"/>
                  <a:pt x="25344" y="11547"/>
                  <a:pt x="25226" y="11832"/>
                </a:cubicBezTo>
                <a:cubicBezTo>
                  <a:pt x="25100" y="12137"/>
                  <a:pt x="24897" y="12415"/>
                  <a:pt x="24730" y="12700"/>
                </a:cubicBezTo>
                <a:cubicBezTo>
                  <a:pt x="24654" y="12831"/>
                  <a:pt x="24586" y="12966"/>
                  <a:pt x="24507" y="13097"/>
                </a:cubicBezTo>
                <a:cubicBezTo>
                  <a:pt x="24301" y="13438"/>
                  <a:pt x="24030" y="13674"/>
                  <a:pt x="23763" y="13965"/>
                </a:cubicBezTo>
                <a:cubicBezTo>
                  <a:pt x="23443" y="14315"/>
                  <a:pt x="23167" y="14693"/>
                  <a:pt x="22895" y="15081"/>
                </a:cubicBezTo>
                <a:cubicBezTo>
                  <a:pt x="22560" y="15560"/>
                  <a:pt x="22283" y="16073"/>
                  <a:pt x="21977" y="16570"/>
                </a:cubicBezTo>
                <a:cubicBezTo>
                  <a:pt x="21726" y="16977"/>
                  <a:pt x="21456" y="17371"/>
                  <a:pt x="21183" y="17760"/>
                </a:cubicBezTo>
                <a:cubicBezTo>
                  <a:pt x="21115" y="17857"/>
                  <a:pt x="20945" y="18194"/>
                  <a:pt x="20836" y="18231"/>
                </a:cubicBezTo>
                <a:cubicBezTo>
                  <a:pt x="20794" y="18245"/>
                  <a:pt x="20781" y="18224"/>
                  <a:pt x="20737" y="18231"/>
                </a:cubicBezTo>
                <a:cubicBezTo>
                  <a:pt x="20610" y="18252"/>
                  <a:pt x="20354" y="18110"/>
                  <a:pt x="20241" y="18083"/>
                </a:cubicBezTo>
                <a:cubicBezTo>
                  <a:pt x="19478" y="17899"/>
                  <a:pt x="18682" y="17785"/>
                  <a:pt x="17934" y="17562"/>
                </a:cubicBezTo>
                <a:cubicBezTo>
                  <a:pt x="17780" y="17516"/>
                  <a:pt x="17664" y="17477"/>
                  <a:pt x="17537" y="17388"/>
                </a:cubicBezTo>
                <a:cubicBezTo>
                  <a:pt x="17227" y="17171"/>
                  <a:pt x="16851" y="16666"/>
                  <a:pt x="16669" y="16346"/>
                </a:cubicBezTo>
                <a:cubicBezTo>
                  <a:pt x="16624" y="16267"/>
                  <a:pt x="16614" y="16177"/>
                  <a:pt x="16570" y="16098"/>
                </a:cubicBezTo>
                <a:cubicBezTo>
                  <a:pt x="16506" y="15982"/>
                  <a:pt x="16403" y="15851"/>
                  <a:pt x="16346" y="15751"/>
                </a:cubicBezTo>
                <a:cubicBezTo>
                  <a:pt x="16312" y="15692"/>
                  <a:pt x="16285" y="15612"/>
                  <a:pt x="16247" y="15553"/>
                </a:cubicBezTo>
                <a:cubicBezTo>
                  <a:pt x="16144" y="15392"/>
                  <a:pt x="16017" y="15275"/>
                  <a:pt x="15900" y="15131"/>
                </a:cubicBezTo>
                <a:cubicBezTo>
                  <a:pt x="15802" y="15010"/>
                  <a:pt x="15685" y="14891"/>
                  <a:pt x="15602" y="14759"/>
                </a:cubicBezTo>
                <a:cubicBezTo>
                  <a:pt x="15491" y="14582"/>
                  <a:pt x="15417" y="14378"/>
                  <a:pt x="15329" y="14188"/>
                </a:cubicBezTo>
                <a:cubicBezTo>
                  <a:pt x="15088" y="13668"/>
                  <a:pt x="14833" y="13114"/>
                  <a:pt x="14709" y="12551"/>
                </a:cubicBezTo>
                <a:cubicBezTo>
                  <a:pt x="14654" y="12300"/>
                  <a:pt x="14625" y="12038"/>
                  <a:pt x="14610" y="11782"/>
                </a:cubicBezTo>
                <a:cubicBezTo>
                  <a:pt x="14524" y="10354"/>
                  <a:pt x="14883" y="8970"/>
                  <a:pt x="15007" y="7565"/>
                </a:cubicBezTo>
                <a:cubicBezTo>
                  <a:pt x="15007" y="7483"/>
                  <a:pt x="15007" y="7466"/>
                  <a:pt x="15007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2:12:31Z</dcterms:created>
  <dc:creator>邓锡坚</dc:creator>
  <dc:description/>
  <cp:keywords/>
  <dc:language>en-US</dc:language>
  <cp:lastModifiedBy>Lenovo User</cp:lastModifiedBy>
  <dcterms:modified xsi:type="dcterms:W3CDTF">2014-08-28T03:04:21Z</dcterms:modified>
  <cp:revision>2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